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68CD-E295-4C57-B116-32BE71FBA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4ACF-618F-42D2-99C1-5B414964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6A8B-2C81-4AC0-9249-4FE1529C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0265-B923-480B-8FAB-DB87F6C2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38B2-DA21-4E61-922D-996DF6D6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A2D2-6D6B-421C-BB6F-10CA179C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7200-132A-499B-A6A3-7FF19261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BF5F-7597-4C54-A3F5-F5197E83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1E2E-1449-4806-9A95-1E24A1DE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6651-5F32-4C71-A5FA-05466414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E609-92E9-4ADD-8D38-0299E9AB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E549-ED32-4082-BA76-EB649DE5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B312-75C6-4F8D-8ACA-C2933EADF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Network Protoc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Konigsbe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 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(c) 1999 Network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document may be distributed as long as the copyright notice is left intac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I Model Layer 2 - Datalink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wareness of Network Addresses (MAC, DCE/DTE, DLC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lity to deliver a packet to another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ls with only local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dging/Switching operate at this level, separating traffic based on MAC addr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I Model Layer 2 - Datalink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DIS (Network Device Interface Spe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I (Open Datalink Interfa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portions of the ATM sp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P (Point to Point Protoc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.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I Model Layer 3 - Network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wareness of more than 1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es at the router (and some switch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administrative separation of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routing protocols (How to get the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(End-System) and IS (Intermediate Syste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I Model Layer 3 - Network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NS (Xerox Network Syste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X (Novell’s NetWa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 (Internet Protoc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yan V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I Model Layer 3 - Network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ing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Routes - Manually set on each ro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P (IP, XNS, IPX) - Distance V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Knowledge of differing speeds or network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 of 0 (local) to 15 (unreach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s its metric on hop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TMP (AppleTal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d capability (No customiz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s multiple paths as routing lo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I Model Layer 3 - Network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ing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PF (IP- Link State), NLSP (IPX- Link St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ghts each route according to media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ively adju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agates network structure (subnet mas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GRP/EIGRP (IP, IPX, AppleTalk, cisco proprieta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ghts routes according to media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agates network structure (subnet mas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ively adju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GRP also handles VL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I Model Layer 3 - Network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ing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-IS (Router to Rou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P (Exterior Gateway Protoc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GP (Border Gateway Protoc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-mi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changing routing information based on contractual agreements between unrelated 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I Model Layer 4 - Transport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ls with moving data across more than 1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guaranteed delivery (Best Effo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for quick messages in which speed and simplicity are more important than rel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eded, reliability mechanisms are built in at a higher level (NetWa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SI Model Layer 4 - Transport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X (Novell’s Internetwork Packet Exchan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NS IDP (XNS Internet Datagram Protoc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eTalk (Phase I and Phase 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DP (User Datagram Protoc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Net (Digital Equipment Network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yan Vines Network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BIOS Datagrams (All underlying protoco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I Model Layer 5 - Sessio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wareness of a connection (Connection Orient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ware of the state of any given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aranteed delivery or notification of fail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 of the quality of data received (checksu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otoco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greed upon standard of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Morning, How are y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’m fine thank you. How are y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h Huh, I underst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s ri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I Model Layer 5 - Sessio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are's SPX (Sequenced Packet Exchan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erox’s SPP (Sequenced Packet Protoc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’s TCP (Transmission Control Protoc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I Model Layer 6 - Presentatio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s a picture of the network independent of underlying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abstract system model for a service-oriented pi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I Model Layer 6 - Presentatio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e Filing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are Core Protocol (Novell’s NC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BIOS (Based on any underlying protocol) NOTE: NetBIOS at this level is subject to some deba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I Model Layer 7 - Applicatio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Protocols use lower layers (usually 4 or 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 is specific to needs of individual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 4 (transport) for quick simpl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 5 (Session) for validation or verification of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I Model Layer 7 - Applicatio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B (Microsoft’s Server Message Blo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CP (Novell’s Netware Core Protoc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net - Remote access to hosts (TC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TP - File Transfer Protocol (TC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/HTTPS-(Secure) HyperText Transport Protocol (TC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TP - Simple Message Transport Protocol (TC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MP - Simple Network Management Protocol (UD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S - Domain Name Service (UDP for Name Lookup, TCP for Zone Trans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I Model Relationships - Abstr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5800" y="2019240"/>
          <a:ext cx="7772400" cy="403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19240"/>
                    <a:ext cx="777240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I Model Relationship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crosoft Network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95160" y="1987560"/>
          <a:ext cx="10333080" cy="431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987560"/>
                    <a:ext cx="10333080" cy="43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I Model Relationship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 Em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08040" y="1987560"/>
          <a:ext cx="7767720" cy="404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1987560"/>
                    <a:ext cx="7767720" cy="40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I Model Relationship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TP (File Transfer)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535040" y="1987560"/>
          <a:ext cx="6058080" cy="397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987560"/>
                    <a:ext cx="6058080" cy="39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apsul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ow it fits togeth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layer depends on the one(s) below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layer treats the one(s) above as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layer has its own error che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layer “thinks” it’s communicating with its peer at the other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layer actually communicates with the ones immediately above and below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tocols we use dai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ment of numbers affects their mea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its vs. Cred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Purchases vs.. Expe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ss Pay vs. Withholding Ta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the right or left of the decimal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behavi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side of the road we drive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, spelling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Layer - Details - 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5 - 4/16 Mb Token Ring - IBM Conn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5 - 4/6 Mb Token Ring - M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DDI - Fiber Distributed Data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Base5 - Thick Ethernet 10 M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Base2 - Thin Ethernet 10 M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BaseT - Twisted Pair 10 Mb/s Cat 3/4/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BaseFL - Multimode Fiber 10 M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BaseT - Twisted Pair 100 Mb/s Cat 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BaseFL - Multimode Fiber 100 M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BaseT - Twisted Pair 1000 Mb/s Cat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Layer - Details - M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Metropolitan Area Networ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wave Links (10/100 Mb/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 - Wireless LAN, Frequency Ho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er Links (10/100 Mb/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6K switched service (Interoperable w/ISDN based on entry in a central datab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DN (Integrated Services Digital Networ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6/64K dedicated service (Framing Depend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SSI (High Speed Serial Interf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og Modems (V.whatever - details la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Layer - Details - W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925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Wide Area Network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DN (Integrated Services Digital Networ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6/64K dedicated servi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raming Depend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ctional/Full T-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64K/Channel 1.5 MB Ful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ctional/Full T-3 (45 MB (15 T-1’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DN (Integrated Services Digital Networ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D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witched Multimegabit Data Servi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tellite Links (High Latenc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link Layer -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I - NetWare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DIS 3 (Microsoft Stand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kets (Berkeley Unix interfa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LI (Transport Layer Interface) Unix SVR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ims (Sit on one datalink layer to make it look like anoth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X/XNS Packet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mediate (for local network) Destination/Source MAC addr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al framing (802.2, Ethernet 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tination network number, MAC address, and socket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ginating network number, Mac address, and socket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specific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numbering systems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mal (Base 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xadecimal (Base 1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(Base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al (Base 8) (Some older syste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ng Numbering system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10 (decimal) uses digits 0-9 and has ones, tens, hundreds, thousands place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16 (hexadecimal) uses digits 0-9 and A-F and has ones, sixteen’s, two-hundred-fifty-six, and four-thousand-ninety-six plac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2 (binary) uses digits 0-1 and has one’s, two’s, four’s, eight's, sixteen’s, thirty-two’s, sixty-four’s, one-hundred-twenty-eight’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8 (octal) uses digits 0-7 and has one’s, eight’s, sixty-four’s,  and five-hundred-twelve’s, place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ng Numbering system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inar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i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00000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7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010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00000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8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010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00001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9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010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00001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010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00010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010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00010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010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00011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7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010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00011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8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01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00100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00100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26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1111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00101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27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1111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00101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28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0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00110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29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0000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00110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00111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2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11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00111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5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111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01000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5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1111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Protocol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SI 7 layer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- Used by applications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ation - Provides a structured view based on the network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ssion - Awareness of the state of conn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ort - Ability to deliver a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- Administrative/logical s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link - Awareness of other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- mechanism of conne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Protocol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rietar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d by individual compa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become semi-public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Net, (Digital’s Network protoc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NS (Xerox Network Syste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X (Novell’s Internet Packet Exchan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Protocol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rietary Protocols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BM’s SNA (Systems Network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eTalk/Apple Filing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BIOS (Originally IBM/Microsoft Networ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nes (Bany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en Ring (IBM physical wi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Talk (Apple serial physical wi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Protocols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d by consortiums or committ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P/IP Protocol Su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I Protocol Su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hernet (10Base2, T, 100Base…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D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I Model Layer 1 - Physical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Layer defines physical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ical specification - Voltages, 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cal specification - wavelength, inten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(connectors, conductors, material, topolog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ing - Data speed, sequencing, multiplex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method -CSMA/CD, Token Pa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Duplex, Half Dup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I Model Layer 1 - Physical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-232 Asynchronous Serial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.35 Synchronous Serial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Talk (Apple High Speed Ser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hernet (10Base2, 10BaseT, 100BaseT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en Ring (4/16 MB/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DDI (100 MB/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ET (Photonic Lay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SSI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Speed Serial Interf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gt; 1.5 Mb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3T16:55:52Z</dcterms:created>
  <dc:creator>Robert J. Konigsberg</dc:creator>
  <dc:description/>
  <dc:language>en-US</dc:language>
  <cp:lastModifiedBy>Bob Konigsberg</cp:lastModifiedBy>
  <cp:lastPrinted>1998-11-09T04:28:45Z</cp:lastPrinted>
  <dcterms:modified xsi:type="dcterms:W3CDTF">2000-11-26T21:50:26Z</dcterms:modified>
  <cp:revision>47</cp:revision>
  <dc:subject/>
  <dc:title>Introduction to Network Protocols</dc:title>
</cp:coreProperties>
</file>