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56D-35F9-432A-A0AB-335D0B76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D70-E123-45B6-9FC1-7771C784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E00-B480-42B1-BBDF-0C46DC57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DCA-EEA5-4360-85F8-564580FE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16F-4111-44D2-B760-81DF068F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24B-C7B5-4936-9CDF-19D43121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30F-EBC8-4B76-A493-DDA97EAD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3D9-E034-4707-ADB5-8B6A47DF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488-2250-4E74-940E-C0E07C94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381-6073-4FD7-96E7-6534913D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5BE-0BB0-4057-AA49-5AF02BC4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B27-A271-4BBB-A26B-05206D21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C3D0-8782-4952-883D-2E715E9F7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I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ernet Protoco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Konigsbe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(c) 1998 Network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ocument may be distributed as long as the copyright notice is left int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Addr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orkstation View)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Address must be unique on the entir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Address must belong to local net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s both the network to which a given system belongs, AND identity on the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Addr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orkstation View)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net Mask defines the dividing line between other local systems (on the local subnet) and remote systems which must reached through a ro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Gateway - The router to which all non-local traffic must be 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traffic is sent directly to the dest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Addressing (Gateway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gateway is generally the local router for a given net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may be other routers.  If one is needed (to deliver a packet), the default router will inform the workstation by a message called an ICMP Redi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workstation learns of other routes and routers, it builds a local routing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’s have a default router since most of them do not participate in routing protocols.  (Unix systems c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Addressing (DHC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HCP (Dynamic Host Configuration Protoc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workstations to get their IP address dynamically, in response to a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supplies Subnet Mask, Default Gateway, DNS server, WINS server and other values on an as-needed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the need administer these values by h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the conflict of duplicate IP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AndSo has 2 DHCP Servers, Bldg. 1 and Bldg. 4 for both redundancy and better respons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rver has separate ranges to avoid confli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Addressing (WIN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S - Windows Internet Naming Service (Internet refers to local internets.  WINS can be  interoperable with DNS (see bel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S is a mechanism for resolving NETBIOS names to IP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S can also be used for resolving IP Addresses obtained through DH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Addressing (Binding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ings refers to what top level clients are making use of the/which protocol stack (TCP/IP, IPX, NetBEU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are: Clients for Microsoft networks, NetWare, VPN, NFS, Banyan V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protocols must be the default (MS Networking will use that fir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Addressing (DNS)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host must have a unique name within the domain or sub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domain is soandso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domains include eng.soandso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DNS servers are allowed in a specified search order; allows for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Addressing (DNS)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DNS lookup gets an IP address for a given name - most common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e DNS lookup gets a name for a given IP address - used in traceroute(Unix)/tracert(NT) and in troubleshoo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suffix allows for default lookups so that the domain doesn’t have to be specified: localweb.soandso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Subne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nets are counted from the left of a 32 bit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ncrement of a subnet mask doubles the number of networks and halves the number of h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ed as decimal number, but seen by systems as a binary mask (1’s on the left, 0’s on the rig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10 (decimal) uses digits 0-9 and has 1’s, 10’s, 100’s, 1000’s place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2 (binary) uses digits 0-1 and has 1’s, 2’s, 4’s, 8’s, 16’s, 32’s, 64’s, 128’s, place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net masks (decimal) are a representation of a sliding scale moving from left to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ing Subnet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is example assumes a Class B (16 bit) sized network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cima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Binar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0.0     11111111.11111111.00000000.00000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4K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128.0   11111111.11111111.10000000.0000000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2K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192.0   11111111.11111111.11000000.0000000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K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224.0   11111111.11111111.11100000.0000000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8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240.0   11111111.11111111.11110000.0000000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0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248.0   11111111.11111111.11111000.0000000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252.0   11111111.11111111.11111100.0000000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254.0   11111111.11111111.11111110.0000000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255.0   11111111.11111111.11111111.0000000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255.128 11111111.11111111.11111111.10000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1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255.128 11111111.11111111.11111111.11000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2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is Example assumes a Class C (24 bit) sized network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255.0   11111111.11111111.11111111.0000000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255.128 11111111.11111111.11111111.1000000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255.192 11111111.11111111.11111111.1100000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255.224 11111111.11111111.11111111.1110000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255.240 11111111.11111111.11111111.1111000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255.248 11111111.11111111.11111111.1111100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255.252 11111111.11111111.11111111.1111110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255.254 11111111.11111111.11111111.1111111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5.255.255.255 11111111.11111111.11111111.11111111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Protocol (I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and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itself (Addressing, Networks, Subn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Specifics as used on Win95/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Based Protocols (TCP, UDP, ICM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Routing (Static, RIP, IGRP, OSP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ef Introduction to OS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Level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netting - Basic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nets are generally sized to allow room for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 must be maintained between number of hosts on net and number of nets required to serve the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subnets are used where the number of possible addresses is very small so as not to waste addressing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netting - Practical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net for a WAN (Wide Area Network) link which contains only 2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3.45.67.1 and 123.45.67.2 would use a subnet mask of 255.255.255.252 (last octet would be 11111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e addresses are: 00, 01, 10,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3.45.67.0 is the network number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3.45.67.1 is the first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3.45.67.2 is the second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3.45.67.3 is the broadcast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The broadcast address for any network is all 1’s (binary) in the address f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netting - Practical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ubnet for a large building, which contains over 500 devices; 510 hosts isn’t enough room for grow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.168.0.0 through 192.168.31.255 are available fo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 mask for 1022 hosts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52.0/11111100.00000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case, 192.168.0.0 is the network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s range from 192.168.0.1 through 192.168.3.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.168.0.1 is the first address (probably the rou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.45.67.2 - 10 is reserved for MIS owned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.168.3.255 is the broadcast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000000.10101000.00000011.11111111 (add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111111.11111111.11111100.00000000 (netma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e broadcast address for any network is all 1’s (binary) in the address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netting - Practical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ubnet for a WAN with small offices in each lo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.168.0.0 through 192.168.31.255 are available fo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 for 8 nets, 30 hosts each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55.224/11111111.11100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numbers: 192.168.4.0, 192.168.4.32, .64, .96, .128, .160, 192,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s range from 192.168.4.1 through 192.168.4.30 (31 is broad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.168.4.33-4.62, 192.168. 4.65-4.94, 192.168. 4.97-4.126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.168. 4.129-4.158,  4.161-4.190,  4.193-4.222,  4.225-4.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.168.4.xxx11111 is the broadcast address (xxx+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000000.10101000.00000100.xxx11111 (add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111111.11111111.11111111.11100000 (netma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is must be done through 1 router unless a routing protocol is used which permits networks with different subnet masks. (Called VLSM: Variable Length Subnet Mas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Addressing Sche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rganizations reserve address space for IS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s/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s,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S Serve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S Serve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HCP Serve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Based Pr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f this may be duplicated in different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Rout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addresses need not be adjacent:  Follow the path of a packet from client to ser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 192.168.84.123 (some workstation in B4) to MSEXCH01 (Exchange Server in B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s to 192.168.84.1 B4 Router Ethernet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s from 192.168.14.2 to 192.168.14.1 (T-1, B4-B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2.168.14.1 and 192.168.85.1 are two different ports on the cisco 7514 router in Bldg.1 (1 is T-1, 1 is Eth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s from 192.168.85.1 to 192.168.85.111 (MSEXCH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ed packets follow the opposite path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Rout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a router know how (or where) to deliver a pack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g Tables: Internal lists of different network routes that tell a router what the best path is to any given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route (Not the same as default router) - Default route tells the router that if it doesn’t find a specific route for a particular packet, to deliver it to the router advertising the default route.  This is how our Internet access 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Rout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 routing tables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Each route is manually def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lexibility, very tedious to main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re security or tight control are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Routing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P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uting Information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PF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 Shortest Path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-IS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uter to Router protocol (IS=Intermediate Sys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RP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net Gateway Routing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GRP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hanced Internet Gateway Routing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Packet Details - What’s it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ination/Source MAC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al framing (802.2, Ethernet 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 Type: IP (could also be IPX, XNS, OSI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live (Number of Router Ho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type (UDP, TCP, ICM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sum: Recalculated since TTL (Time To Live) changes with each router 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specific header (UDP, TCP, ICM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specific data (Application lev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Control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on Oriented: Awareness of other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bility: Guaranteed delivery of data or notification if delivery f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iciency of transport by using sliding windows (No. of packets sent w/o A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a telephone call or registered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s and Definition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- A set of connected systems that communicate as p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 - A specific computer on a network (workstation, server, prin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- A network made of of multiple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- The world-wide connection of many smaller intern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r - A device for connecting administratively separate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Pa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and IP 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 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nowledgement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: Urgent, Ack, Push, Reset, Synch,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CP Session Setup and Tear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packet with only SYN bit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eceiver wants to setup a session, responds with the SYN and ACK bit set (OK, let’s talk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session desired (e.g. service not running), TCP on “server” responds w/RST bit (go 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session is set up all future packets have ACK bit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Session Set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71480" y="1987560"/>
          <a:ext cx="7751880" cy="44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1987560"/>
                    <a:ext cx="775188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DP Pa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Datagram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onless - No Stat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like a postcard; The only way you know it got there is when you get a follow up me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quick lookup or notification, examples: Name Lookup, Syslog messages, SNMP traps,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DP Pa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and IP H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ination 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of p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specific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Control Messag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re-routing, unreachable destinations and flow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types of messages, some with more specifically defined message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ed ICMP Message Typ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    Echo Reply - Answer to a Ping (Echo Reque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    Destination Unrea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Net Unreachable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uter tells you that the (sub)net can’t be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Host Unreachable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destination host may not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 Port Unreachable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re is no service at that port on the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 Fragmentation Needed and Don't Fragment was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 Source Route Failed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kely a firewall re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 Destination Network Unknown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etwork cannot be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  Communication with Destination Network is Administratively Prohib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 Communication with Destination Host is administratively Prohib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  Destination Network Unreachable for Type 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  Destination Host Unreachable for Type 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ed ICMP Message Typ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    Source Quench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mitive 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  Redirect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me, go see this other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    Echo (Request) 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ng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    Router Advertisement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, I’m a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   Time Exceeded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TL Expired (Tracero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    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   Timestamp 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   Information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   Information 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   Address Mask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   Address Mask 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    Reserved (for Secu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Tracero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ICMP version, not UDP ver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ceRoute - Clever H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 Ping, or UDP packet w/port 33,000+ is sent with 1 hop in the TTL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ntermediate device replies w/ICMP type 11 Time exceeded, then packet is resent with the TTL field increment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keeps up until either the destination is reached, OR the max TTL (30) is re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ong the way, each destination system is identified by sending ICMP Time Exc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tom Line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ct network path describ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7 Layer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66960" y="2124000"/>
          <a:ext cx="752472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6960" y="2124000"/>
                    <a:ext cx="75247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s and Definition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er - A circuit card to connect a host (PC) to a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 - The type of physical network system (Ethernet, FDD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- A predefined set of behaviors used by network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- Domain Name Service; used to identify hosts by name rather than a numeric add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Based Application Protoc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n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T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NT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imeOf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P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tBIO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CAC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QL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MT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FT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phe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NM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lAud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cture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NT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-Window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R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PC(Unix/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log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TTP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tus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Address Structur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V4 addresses are 32 bits with an address space of 4.2 billion systems (much was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es are divided into Class A, B, C,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2 bit length is divided into 4, 8 bit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n as 1.2.3.4 or 192.168.99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portion is assigned to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 then divides that into subn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Address Structur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A is an 8 bit network number (1-126) with a 24 bit host/subnet address space (125 nets, each with 16+ million addres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B is a 16 bit network number (128.0 - 191.255) with a 16 bit host/subnet address space (16 thousand networks, each with 65 thousand addres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 is a 24 bit network number (192.0.0 - 224.255.255) with an 8 bit host/subnet address (2 million networks, with 254 addresses ea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D is a special case (ignored for no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Address Structur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 bit space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-------.--------.--------.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dg. 4 router address in decimal and binary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92  .   168  .    84  .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000000.10101000.01010100.000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bit (Class C) subnet mask shown below in decimal and binary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111111.11111111.11111111.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55  .   255  .   255  .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1’s part is the network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0’s part is the host ad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Address Structur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 bit space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-------.--------.--------.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MZ address space shown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om 192.   168  .   213  .  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   192.   168  .   213  .   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000000.10101000.11010101.010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000000.10101000.11010101.01011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 bit subnet mask shown below in decimal and binary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111111.11111111.11111111.11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55  .   255  .   255  .  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te:broadcast address is 205.227.213.95 (11000000.10101000.11010101.010111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Addressing (Workstation View)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net M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Gateway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HCP (Dynamic Host Configuration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S Server (Or use DHCP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ings (MS Client, NetWare Client, ot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 (Host, Domain, Servers, Domain Suff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3T16:55:52Z</dcterms:created>
  <dc:creator>Robert J. Konigsberg</dc:creator>
  <dc:description/>
  <dc:language>en-US</dc:language>
  <cp:lastModifiedBy>Bob Konigsberg</cp:lastModifiedBy>
  <cp:lastPrinted>1998-12-05T17:17:59Z</cp:lastPrinted>
  <dcterms:modified xsi:type="dcterms:W3CDTF">2000-11-26T21:50:36Z</dcterms:modified>
  <cp:revision>81</cp:revision>
  <dc:subject/>
  <dc:title>Introduction to Network Protocols</dc:title>
</cp:coreProperties>
</file>